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99E-B3E4-4DB0-BF7E-666219DAD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9AA1-C4D9-4749-999C-2260E78A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025D-9C85-4DCA-B830-FABC2EFD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445F-1EC8-4A6C-8765-04EE3F8E2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AFC7-1CBC-4535-9129-8CD4C22D2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29D6-2AC7-4AD3-ABE3-88417321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B23E-30D6-4FC1-BC92-1BF797DFD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927-C7F8-434D-ACD2-5984E667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88DE-B0D8-46BA-A6B4-03C5A2DAC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12BD-70E9-4ED1-A986-70D904BC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2F89-5AF7-4A31-9933-892B0D82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0451-8742-469A-8AA7-D9237806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6213C-6655-4FC3-A297-A00F8F5C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80520" y="914400"/>
            <a:ext cx="40388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Wave Technologies is a newly formed technology firm established to assist researchers and corporations advance their technologies to market. However, more importantly than providing just money, First Wave's model is to provide a complete management team that can partner with researchers to accelerate introduction of ideas into the hands of custo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351320" y="1523880"/>
            <a:ext cx="4792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02:03Z</dcterms:created>
  <dc:creator>PA Department of Education</dc:creator>
  <dc:description/>
  <dc:language>en-US</dc:language>
  <cp:lastModifiedBy>PA Department of Education</cp:lastModifiedBy>
  <dcterms:modified xsi:type="dcterms:W3CDTF">2009-05-21T17:30:52Z</dcterms:modified>
  <cp:revision>2</cp:revision>
  <dc:subject/>
  <dc:title>First wave</dc:title>
</cp:coreProperties>
</file>